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2CAD-0EA0-409B-9EDC-2130F596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3C46-212F-43B0-81C4-278AE04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F977-8E58-43DE-A612-D231B782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11A6-1CEB-4E8B-8E79-136C3726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2F5E-EA99-4D8F-8C12-FFF9C894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59B4-62FF-4BF4-B6D8-5ECA2D22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4100-D781-422D-ACE5-35C45528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3D6A-436F-4340-9CD9-44389D1B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99A6-34CF-4E29-998E-3D614F7F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AE5B-F702-4271-B6FE-2338F302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C3FB-F4F4-4D85-B3AD-2302D19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2078-7C9E-4CB5-8DE7-ECCAC88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5E94-D313-47D8-9AD0-280D1178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0271-C9F8-44E2-9CD7-FD3D8F3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03ED-D46D-4D11-9210-A119AB66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B4BB-B0F8-48FD-B782-A37F2660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A996-05BA-4110-81C7-A02669DA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F165-4C25-48F1-9630-A349B61A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6D6C-102B-4A74-92CC-B375638E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EA94-3DB4-4069-A095-03214323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7B12-3715-4348-83AF-9FADE820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18CC-6183-4882-9B26-960DF13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6683-75FC-4389-9ADA-AAC28A7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85E2-4A1D-4335-991A-C5CE6412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DB4A-4C42-4EF5-B187-EB72DAFCA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1A9C-9332-459B-8A21-67161ED47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 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81676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uble column transposition cipher works just as the name imp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is enciphered using a column transposition and then the resulting ciphertext is enciphered again using a column trans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may the same for transpositions or it may be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hopefully, a thorough mixing of the positions of the plaintext le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A08E-DA2E-4C40-A6A5-A2C5F82538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pher the phrase “encryption algorithms”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" y="30430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ing the keyword next:  2-1-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200" y="4373640"/>
            <a:ext cx="1106640" cy="1659600"/>
            <a:chOff x="403200" y="4373640"/>
            <a:chExt cx="1106640" cy="1659600"/>
          </a:xfrm>
        </p:grpSpPr>
        <p:grpSp>
          <p:nvGrpSpPr>
            <p:cNvPr id="119" name=""/>
            <p:cNvGrpSpPr/>
            <p:nvPr/>
          </p:nvGrpSpPr>
          <p:grpSpPr>
            <a:xfrm>
              <a:off x="419400" y="4707000"/>
              <a:ext cx="1090440" cy="1326240"/>
              <a:chOff x="419400" y="4707000"/>
              <a:chExt cx="1090440" cy="13262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952920" y="4707000"/>
                <a:ext cx="280800" cy="1326240"/>
                <a:chOff x="952920" y="4707000"/>
                <a:chExt cx="280800" cy="13262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952920" y="4707000"/>
                  <a:ext cx="280800" cy="278280"/>
                  <a:chOff x="952920" y="4707000"/>
                  <a:chExt cx="280800" cy="278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96696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5292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952920" y="4964400"/>
                  <a:ext cx="280800" cy="278280"/>
                  <a:chOff x="952920" y="4964400"/>
                  <a:chExt cx="280800" cy="27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96696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5292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952920" y="5230800"/>
                  <a:ext cx="280800" cy="278280"/>
                  <a:chOff x="952920" y="5230800"/>
                  <a:chExt cx="280800" cy="278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96696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5292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952920" y="5497560"/>
                  <a:ext cx="280800" cy="278280"/>
                  <a:chOff x="952920" y="5497560"/>
                  <a:chExt cx="280800" cy="278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6696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5292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952920" y="5754960"/>
                  <a:ext cx="280800" cy="278280"/>
                  <a:chOff x="952920" y="5754960"/>
                  <a:chExt cx="280800" cy="27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96696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95292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229040" y="4707000"/>
                <a:ext cx="280800" cy="1326240"/>
                <a:chOff x="1229040" y="4707000"/>
                <a:chExt cx="280800" cy="132624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229040" y="4707000"/>
                  <a:ext cx="280800" cy="278280"/>
                  <a:chOff x="1229040" y="4707000"/>
                  <a:chExt cx="280800" cy="278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24308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22904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1229040" y="4964400"/>
                  <a:ext cx="280800" cy="278280"/>
                  <a:chOff x="1229040" y="4964400"/>
                  <a:chExt cx="280800" cy="27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24308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22904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229040" y="5230800"/>
                  <a:ext cx="280800" cy="278280"/>
                  <a:chOff x="1229040" y="5230800"/>
                  <a:chExt cx="280800" cy="2782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24308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2904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229040" y="5497560"/>
                  <a:ext cx="280800" cy="278280"/>
                  <a:chOff x="1229040" y="5497560"/>
                  <a:chExt cx="280800" cy="278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4308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2904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229040" y="5754960"/>
                  <a:ext cx="280800" cy="278280"/>
                  <a:chOff x="1229040" y="5754960"/>
                  <a:chExt cx="280800" cy="278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24308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22904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6160" y="4707000"/>
                <a:ext cx="280800" cy="1326240"/>
                <a:chOff x="686160" y="4707000"/>
                <a:chExt cx="280800" cy="132624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86160" y="4707000"/>
                  <a:ext cx="280800" cy="278280"/>
                  <a:chOff x="686160" y="4707000"/>
                  <a:chExt cx="280800" cy="278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0020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8616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6160" y="4964400"/>
                  <a:ext cx="280800" cy="278280"/>
                  <a:chOff x="686160" y="4964400"/>
                  <a:chExt cx="280800" cy="278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0020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8616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86160" y="5230800"/>
                  <a:ext cx="280800" cy="278280"/>
                  <a:chOff x="686160" y="5230800"/>
                  <a:chExt cx="280800" cy="27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020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616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86160" y="5497560"/>
                  <a:ext cx="280800" cy="278280"/>
                  <a:chOff x="686160" y="5497560"/>
                  <a:chExt cx="280800" cy="278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0020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8616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86160" y="5754960"/>
                  <a:ext cx="280800" cy="278280"/>
                  <a:chOff x="686160" y="5754960"/>
                  <a:chExt cx="280800" cy="278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0020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9400" y="4707000"/>
                <a:ext cx="280800" cy="1326240"/>
                <a:chOff x="419400" y="4707000"/>
                <a:chExt cx="280800" cy="1326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19400" y="4707000"/>
                  <a:ext cx="280800" cy="278280"/>
                  <a:chOff x="419400" y="4707000"/>
                  <a:chExt cx="280800" cy="27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3344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1940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19400" y="4964400"/>
                  <a:ext cx="280800" cy="278280"/>
                  <a:chOff x="419400" y="4964400"/>
                  <a:chExt cx="280800" cy="278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344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1940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19400" y="5230800"/>
                  <a:ext cx="280800" cy="278280"/>
                  <a:chOff x="419400" y="5230800"/>
                  <a:chExt cx="280800" cy="278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3344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1940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19400" y="5497560"/>
                  <a:ext cx="280800" cy="278280"/>
                  <a:chOff x="419400" y="5497560"/>
                  <a:chExt cx="280800" cy="2782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344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1940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19400" y="5754960"/>
                  <a:ext cx="280800" cy="278280"/>
                  <a:chOff x="419400" y="5754960"/>
                  <a:chExt cx="280800" cy="278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344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940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403200" y="4373640"/>
              <a:ext cx="1095480" cy="377640"/>
              <a:chOff x="403200" y="4373640"/>
              <a:chExt cx="1095480" cy="377640"/>
            </a:xfrm>
          </p:grpSpPr>
          <p:sp>
            <p:nvSpPr>
              <p:cNvPr id="185" name=""/>
              <p:cNvSpPr/>
              <p:nvPr/>
            </p:nvSpPr>
            <p:spPr>
              <a:xfrm>
                <a:off x="4032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76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5580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48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726360" y="363384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 using the keyword image:  4-5-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6520" y="4707000"/>
            <a:ext cx="280440" cy="1325520"/>
            <a:chOff x="686520" y="4707000"/>
            <a:chExt cx="280440" cy="1325520"/>
          </a:xfrm>
        </p:grpSpPr>
        <p:grpSp>
          <p:nvGrpSpPr>
            <p:cNvPr id="191" name=""/>
            <p:cNvGrpSpPr/>
            <p:nvPr/>
          </p:nvGrpSpPr>
          <p:grpSpPr>
            <a:xfrm>
              <a:off x="686520" y="5754600"/>
              <a:ext cx="280440" cy="277920"/>
              <a:chOff x="686520" y="5754600"/>
              <a:chExt cx="280440" cy="277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00200" y="57546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520" y="5756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6520" y="5487840"/>
              <a:ext cx="280440" cy="277920"/>
              <a:chOff x="686520" y="5487840"/>
              <a:chExt cx="280440" cy="277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00200" y="54878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520" y="54892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6520" y="5221080"/>
              <a:ext cx="280440" cy="277920"/>
              <a:chOff x="686520" y="5221080"/>
              <a:chExt cx="280440" cy="27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700200" y="5221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5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6520" y="4973400"/>
              <a:ext cx="280440" cy="277920"/>
              <a:chOff x="686520" y="4973400"/>
              <a:chExt cx="280440" cy="27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0200" y="49734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520" y="49748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6520" y="4707000"/>
              <a:ext cx="280440" cy="277920"/>
              <a:chOff x="686520" y="4707000"/>
              <a:chExt cx="280440" cy="277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00200" y="47070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6520" y="47084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924640" y="4363920"/>
            <a:ext cx="1385280" cy="592200"/>
            <a:chOff x="2924640" y="4363920"/>
            <a:chExt cx="1385280" cy="592200"/>
          </a:xfrm>
        </p:grpSpPr>
        <p:grpSp>
          <p:nvGrpSpPr>
            <p:cNvPr id="207" name=""/>
            <p:cNvGrpSpPr/>
            <p:nvPr/>
          </p:nvGrpSpPr>
          <p:grpSpPr>
            <a:xfrm>
              <a:off x="2924640" y="4678200"/>
              <a:ext cx="1385280" cy="277920"/>
              <a:chOff x="2924640" y="4678200"/>
              <a:chExt cx="1385280" cy="277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924640" y="4678200"/>
                <a:ext cx="280440" cy="277920"/>
                <a:chOff x="2924640" y="4678200"/>
                <a:chExt cx="280440" cy="27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83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246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29480" y="4678200"/>
                <a:ext cx="280440" cy="277920"/>
                <a:chOff x="4029480" y="4678200"/>
                <a:chExt cx="280440" cy="277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4316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2948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753360" y="4678200"/>
                <a:ext cx="280440" cy="277920"/>
                <a:chOff x="3753360" y="4678200"/>
                <a:chExt cx="280440" cy="277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7670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533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77240" y="4678200"/>
                <a:ext cx="280440" cy="277920"/>
                <a:chOff x="3477240" y="4678200"/>
                <a:chExt cx="280440" cy="277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909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72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760" y="4678200"/>
                <a:ext cx="280440" cy="277920"/>
                <a:chOff x="3200760" y="4678200"/>
                <a:chExt cx="280440" cy="277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144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007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927160" y="4363920"/>
              <a:ext cx="1371600" cy="387360"/>
              <a:chOff x="2927160" y="4363920"/>
              <a:chExt cx="1371600" cy="387360"/>
            </a:xfrm>
          </p:grpSpPr>
          <p:sp>
            <p:nvSpPr>
              <p:cNvPr id="224" name=""/>
              <p:cNvSpPr/>
              <p:nvPr/>
            </p:nvSpPr>
            <p:spPr>
              <a:xfrm>
                <a:off x="29271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223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94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2708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356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924640" y="5478480"/>
            <a:ext cx="1385280" cy="277920"/>
            <a:chOff x="2924640" y="5478480"/>
            <a:chExt cx="1385280" cy="277920"/>
          </a:xfrm>
        </p:grpSpPr>
        <p:grpSp>
          <p:nvGrpSpPr>
            <p:cNvPr id="230" name=""/>
            <p:cNvGrpSpPr/>
            <p:nvPr/>
          </p:nvGrpSpPr>
          <p:grpSpPr>
            <a:xfrm>
              <a:off x="2924640" y="5478480"/>
              <a:ext cx="280440" cy="277920"/>
              <a:chOff x="2924640" y="5478480"/>
              <a:chExt cx="280440" cy="277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383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246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29480" y="5478480"/>
              <a:ext cx="280440" cy="277920"/>
              <a:chOff x="4029480" y="5478480"/>
              <a:chExt cx="280440" cy="2779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4316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2948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53360" y="5478480"/>
              <a:ext cx="280440" cy="277920"/>
              <a:chOff x="3753360" y="5478480"/>
              <a:chExt cx="280440" cy="27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7670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533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77240" y="5478480"/>
              <a:ext cx="280440" cy="277920"/>
              <a:chOff x="3477240" y="5478480"/>
              <a:chExt cx="280440" cy="277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909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772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00760" y="5478480"/>
              <a:ext cx="280440" cy="277920"/>
              <a:chOff x="3200760" y="5478480"/>
              <a:chExt cx="280440" cy="27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2144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07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941400" y="4830480"/>
            <a:ext cx="189540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0040" y="4697280"/>
            <a:ext cx="280440" cy="1344960"/>
            <a:chOff x="410040" y="4697280"/>
            <a:chExt cx="280440" cy="1344960"/>
          </a:xfrm>
        </p:grpSpPr>
        <p:grpSp>
          <p:nvGrpSpPr>
            <p:cNvPr id="247" name=""/>
            <p:cNvGrpSpPr/>
            <p:nvPr/>
          </p:nvGrpSpPr>
          <p:grpSpPr>
            <a:xfrm>
              <a:off x="410040" y="5764320"/>
              <a:ext cx="280440" cy="277920"/>
              <a:chOff x="410040" y="5764320"/>
              <a:chExt cx="28044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2372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04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0040" y="5497560"/>
              <a:ext cx="280440" cy="277920"/>
              <a:chOff x="410040" y="5497560"/>
              <a:chExt cx="280440" cy="277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372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04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10040" y="5230800"/>
              <a:ext cx="280440" cy="277920"/>
              <a:chOff x="410040" y="5230800"/>
              <a:chExt cx="280440" cy="277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372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04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10040" y="4964040"/>
              <a:ext cx="280440" cy="277920"/>
              <a:chOff x="410040" y="4964040"/>
              <a:chExt cx="280440" cy="277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2372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004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0040" y="4697280"/>
              <a:ext cx="280440" cy="277920"/>
              <a:chOff x="410040" y="4697280"/>
              <a:chExt cx="280440" cy="27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2372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04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flipV="1">
            <a:off x="636480" y="5049360"/>
            <a:ext cx="2181240" cy="181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4640" y="4954680"/>
            <a:ext cx="1385280" cy="277920"/>
            <a:chOff x="2924640" y="4954680"/>
            <a:chExt cx="1385280" cy="277920"/>
          </a:xfrm>
        </p:grpSpPr>
        <p:grpSp>
          <p:nvGrpSpPr>
            <p:cNvPr id="264" name=""/>
            <p:cNvGrpSpPr/>
            <p:nvPr/>
          </p:nvGrpSpPr>
          <p:grpSpPr>
            <a:xfrm>
              <a:off x="2924640" y="4954680"/>
              <a:ext cx="280440" cy="277920"/>
              <a:chOff x="2924640" y="4954680"/>
              <a:chExt cx="280440" cy="27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9383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246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29480" y="4954680"/>
              <a:ext cx="280440" cy="277920"/>
              <a:chOff x="4029480" y="4954680"/>
              <a:chExt cx="28044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404316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948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753360" y="4954680"/>
              <a:ext cx="280440" cy="277920"/>
              <a:chOff x="3753360" y="4954680"/>
              <a:chExt cx="28044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670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533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77240" y="4954680"/>
              <a:ext cx="280440" cy="277920"/>
              <a:chOff x="3477240" y="4954680"/>
              <a:chExt cx="28044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72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00760" y="4954680"/>
              <a:ext cx="280440" cy="277920"/>
              <a:chOff x="3200760" y="4954680"/>
              <a:chExt cx="28044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2144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007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952920" y="4697280"/>
            <a:ext cx="280440" cy="1344960"/>
            <a:chOff x="952920" y="4697280"/>
            <a:chExt cx="280440" cy="1344960"/>
          </a:xfrm>
        </p:grpSpPr>
        <p:grpSp>
          <p:nvGrpSpPr>
            <p:cNvPr id="280" name=""/>
            <p:cNvGrpSpPr/>
            <p:nvPr/>
          </p:nvGrpSpPr>
          <p:grpSpPr>
            <a:xfrm>
              <a:off x="952920" y="5764320"/>
              <a:ext cx="280440" cy="277920"/>
              <a:chOff x="952920" y="5764320"/>
              <a:chExt cx="280440" cy="277920"/>
            </a:xfrm>
          </p:grpSpPr>
          <p:sp>
            <p:nvSpPr>
              <p:cNvPr id="281" name=""/>
              <p:cNvSpPr/>
              <p:nvPr/>
            </p:nvSpPr>
            <p:spPr>
              <a:xfrm>
                <a:off x="96660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5292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952920" y="5497560"/>
              <a:ext cx="280440" cy="277920"/>
              <a:chOff x="952920" y="5497560"/>
              <a:chExt cx="28044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660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292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2920" y="5230800"/>
              <a:ext cx="280440" cy="277920"/>
              <a:chOff x="952920" y="5230800"/>
              <a:chExt cx="28044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96660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5292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52920" y="4964040"/>
              <a:ext cx="280440" cy="277920"/>
              <a:chOff x="952920" y="4964040"/>
              <a:chExt cx="28044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6660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5292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52920" y="4697280"/>
              <a:ext cx="280440" cy="277920"/>
              <a:chOff x="952920" y="4697280"/>
              <a:chExt cx="28044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96660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5292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29400" y="4697280"/>
            <a:ext cx="280440" cy="1344960"/>
            <a:chOff x="1229400" y="4697280"/>
            <a:chExt cx="280440" cy="1344960"/>
          </a:xfrm>
        </p:grpSpPr>
        <p:grpSp>
          <p:nvGrpSpPr>
            <p:cNvPr id="296" name=""/>
            <p:cNvGrpSpPr/>
            <p:nvPr/>
          </p:nvGrpSpPr>
          <p:grpSpPr>
            <a:xfrm>
              <a:off x="1229400" y="5764320"/>
              <a:ext cx="280440" cy="277920"/>
              <a:chOff x="1229400" y="5764320"/>
              <a:chExt cx="280440" cy="277920"/>
            </a:xfrm>
          </p:grpSpPr>
          <p:sp>
            <p:nvSpPr>
              <p:cNvPr id="297" name=""/>
              <p:cNvSpPr/>
              <p:nvPr/>
            </p:nvSpPr>
            <p:spPr>
              <a:xfrm>
                <a:off x="124308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940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29400" y="5497560"/>
              <a:ext cx="280440" cy="277920"/>
              <a:chOff x="1229400" y="5497560"/>
              <a:chExt cx="280440" cy="277920"/>
            </a:xfrm>
          </p:grpSpPr>
          <p:sp>
            <p:nvSpPr>
              <p:cNvPr id="300" name=""/>
              <p:cNvSpPr/>
              <p:nvPr/>
            </p:nvSpPr>
            <p:spPr>
              <a:xfrm>
                <a:off x="124308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2940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229400" y="5230800"/>
              <a:ext cx="280440" cy="277920"/>
              <a:chOff x="1229400" y="5230800"/>
              <a:chExt cx="280440" cy="277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24308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2940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29400" y="4964040"/>
              <a:ext cx="280440" cy="277920"/>
              <a:chOff x="1229400" y="4964040"/>
              <a:chExt cx="280440" cy="277920"/>
            </a:xfrm>
          </p:grpSpPr>
          <p:sp>
            <p:nvSpPr>
              <p:cNvPr id="306" name=""/>
              <p:cNvSpPr/>
              <p:nvPr/>
            </p:nvSpPr>
            <p:spPr>
              <a:xfrm>
                <a:off x="124308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2940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229400" y="4697280"/>
              <a:ext cx="280440" cy="277920"/>
              <a:chOff x="1229400" y="4697280"/>
              <a:chExt cx="280440" cy="27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24308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2940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924640" y="5221440"/>
            <a:ext cx="1385280" cy="277920"/>
            <a:chOff x="2924640" y="5221440"/>
            <a:chExt cx="1385280" cy="277920"/>
          </a:xfrm>
        </p:grpSpPr>
        <p:grpSp>
          <p:nvGrpSpPr>
            <p:cNvPr id="312" name=""/>
            <p:cNvGrpSpPr/>
            <p:nvPr/>
          </p:nvGrpSpPr>
          <p:grpSpPr>
            <a:xfrm>
              <a:off x="2924640" y="5221440"/>
              <a:ext cx="280440" cy="277920"/>
              <a:chOff x="2924640" y="5221440"/>
              <a:chExt cx="280440" cy="277920"/>
            </a:xfrm>
          </p:grpSpPr>
          <p:sp>
            <p:nvSpPr>
              <p:cNvPr id="313" name=""/>
              <p:cNvSpPr/>
              <p:nvPr/>
            </p:nvSpPr>
            <p:spPr>
              <a:xfrm>
                <a:off x="29383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46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029480" y="5221440"/>
              <a:ext cx="280440" cy="277920"/>
              <a:chOff x="4029480" y="5221440"/>
              <a:chExt cx="280440" cy="277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04316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2948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753360" y="5221440"/>
              <a:ext cx="280440" cy="277920"/>
              <a:chOff x="3753360" y="5221440"/>
              <a:chExt cx="280440" cy="277920"/>
            </a:xfrm>
          </p:grpSpPr>
          <p:sp>
            <p:nvSpPr>
              <p:cNvPr id="319" name=""/>
              <p:cNvSpPr/>
              <p:nvPr/>
            </p:nvSpPr>
            <p:spPr>
              <a:xfrm>
                <a:off x="37670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33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7240" y="5221440"/>
              <a:ext cx="280440" cy="277920"/>
              <a:chOff x="3477240" y="5221440"/>
              <a:chExt cx="280440" cy="277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4909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72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200760" y="5221440"/>
              <a:ext cx="280440" cy="277920"/>
              <a:chOff x="3200760" y="5221440"/>
              <a:chExt cx="280440" cy="277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2144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07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V="1">
            <a:off x="1465200" y="5306760"/>
            <a:ext cx="138132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08160" y="5611320"/>
            <a:ext cx="162864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0760" y="4687920"/>
            <a:ext cx="280800" cy="1068120"/>
            <a:chOff x="3200760" y="4687920"/>
            <a:chExt cx="280800" cy="1068120"/>
          </a:xfrm>
        </p:grpSpPr>
        <p:grpSp>
          <p:nvGrpSpPr>
            <p:cNvPr id="330" name=""/>
            <p:cNvGrpSpPr/>
            <p:nvPr/>
          </p:nvGrpSpPr>
          <p:grpSpPr>
            <a:xfrm>
              <a:off x="3200760" y="5478120"/>
              <a:ext cx="280800" cy="277920"/>
              <a:chOff x="3200760" y="5478120"/>
              <a:chExt cx="280800" cy="277920"/>
            </a:xfrm>
          </p:grpSpPr>
          <p:sp>
            <p:nvSpPr>
              <p:cNvPr id="331" name=""/>
              <p:cNvSpPr/>
              <p:nvPr/>
            </p:nvSpPr>
            <p:spPr>
              <a:xfrm>
                <a:off x="321480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0076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0760" y="5221080"/>
              <a:ext cx="280800" cy="277920"/>
              <a:chOff x="3200760" y="5221080"/>
              <a:chExt cx="28080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21480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76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760" y="4954320"/>
              <a:ext cx="280800" cy="277920"/>
              <a:chOff x="3200760" y="4954320"/>
              <a:chExt cx="280800" cy="277920"/>
            </a:xfrm>
          </p:grpSpPr>
          <p:sp>
            <p:nvSpPr>
              <p:cNvPr id="337" name=""/>
              <p:cNvSpPr/>
              <p:nvPr/>
            </p:nvSpPr>
            <p:spPr>
              <a:xfrm>
                <a:off x="321480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76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00760" y="4687920"/>
              <a:ext cx="280800" cy="277920"/>
              <a:chOff x="3200760" y="4687920"/>
              <a:chExt cx="280800" cy="27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76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753000" y="4687920"/>
            <a:ext cx="280800" cy="1068120"/>
            <a:chOff x="3753000" y="4687920"/>
            <a:chExt cx="280800" cy="1068120"/>
          </a:xfrm>
        </p:grpSpPr>
        <p:grpSp>
          <p:nvGrpSpPr>
            <p:cNvPr id="343" name=""/>
            <p:cNvGrpSpPr/>
            <p:nvPr/>
          </p:nvGrpSpPr>
          <p:grpSpPr>
            <a:xfrm>
              <a:off x="3753000" y="5478120"/>
              <a:ext cx="280800" cy="277920"/>
              <a:chOff x="3753000" y="5478120"/>
              <a:chExt cx="28080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5300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753000" y="5221080"/>
              <a:ext cx="280800" cy="277920"/>
              <a:chOff x="3753000" y="5221080"/>
              <a:chExt cx="28080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76704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5300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753000" y="4954320"/>
              <a:ext cx="280800" cy="277920"/>
              <a:chOff x="3753000" y="4954320"/>
              <a:chExt cx="28080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6704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5300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3000" y="4687920"/>
              <a:ext cx="280800" cy="277920"/>
              <a:chOff x="3753000" y="4687920"/>
              <a:chExt cx="28080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76704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5300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810320" y="5040360"/>
            <a:ext cx="1099080" cy="277920"/>
            <a:chOff x="4810320" y="5040360"/>
            <a:chExt cx="1099080" cy="277920"/>
          </a:xfrm>
        </p:grpSpPr>
        <p:grpSp>
          <p:nvGrpSpPr>
            <p:cNvPr id="356" name=""/>
            <p:cNvGrpSpPr/>
            <p:nvPr/>
          </p:nvGrpSpPr>
          <p:grpSpPr>
            <a:xfrm>
              <a:off x="5629320" y="5040360"/>
              <a:ext cx="280080" cy="277920"/>
              <a:chOff x="5629320" y="5040360"/>
              <a:chExt cx="280080" cy="277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643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9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52840" y="5040360"/>
              <a:ext cx="280080" cy="277920"/>
              <a:chOff x="5352840" y="5040360"/>
              <a:chExt cx="280080" cy="2779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6652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284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086080" y="5040360"/>
              <a:ext cx="280080" cy="277920"/>
              <a:chOff x="5086080" y="5040360"/>
              <a:chExt cx="280080" cy="277920"/>
            </a:xfrm>
          </p:grpSpPr>
          <p:sp>
            <p:nvSpPr>
              <p:cNvPr id="363" name=""/>
              <p:cNvSpPr/>
              <p:nvPr/>
            </p:nvSpPr>
            <p:spPr>
              <a:xfrm>
                <a:off x="510012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60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10320" y="5040360"/>
              <a:ext cx="280080" cy="277920"/>
              <a:chOff x="4810320" y="5040360"/>
              <a:chExt cx="280080" cy="2779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24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10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5905800" y="5040360"/>
            <a:ext cx="1099080" cy="277920"/>
            <a:chOff x="5905800" y="5040360"/>
            <a:chExt cx="1099080" cy="277920"/>
          </a:xfrm>
        </p:grpSpPr>
        <p:grpSp>
          <p:nvGrpSpPr>
            <p:cNvPr id="369" name=""/>
            <p:cNvGrpSpPr/>
            <p:nvPr/>
          </p:nvGrpSpPr>
          <p:grpSpPr>
            <a:xfrm>
              <a:off x="6724800" y="5040360"/>
              <a:ext cx="280080" cy="277920"/>
              <a:chOff x="6724800" y="5040360"/>
              <a:chExt cx="280080" cy="277920"/>
            </a:xfrm>
          </p:grpSpPr>
          <p:sp>
            <p:nvSpPr>
              <p:cNvPr id="370" name=""/>
              <p:cNvSpPr/>
              <p:nvPr/>
            </p:nvSpPr>
            <p:spPr>
              <a:xfrm>
                <a:off x="6738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24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48320" y="5040360"/>
              <a:ext cx="280080" cy="277920"/>
              <a:chOff x="6448320" y="5040360"/>
              <a:chExt cx="280080" cy="27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462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181560" y="5040360"/>
              <a:ext cx="280080" cy="277920"/>
              <a:chOff x="6181560" y="5040360"/>
              <a:chExt cx="280080" cy="277920"/>
            </a:xfrm>
          </p:grpSpPr>
          <p:sp>
            <p:nvSpPr>
              <p:cNvPr id="376" name=""/>
              <p:cNvSpPr/>
              <p:nvPr/>
            </p:nvSpPr>
            <p:spPr>
              <a:xfrm>
                <a:off x="619560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8156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905800" y="5040360"/>
              <a:ext cx="280080" cy="277920"/>
              <a:chOff x="5905800" y="5040360"/>
              <a:chExt cx="280080" cy="277920"/>
            </a:xfrm>
          </p:grpSpPr>
          <p:sp>
            <p:nvSpPr>
              <p:cNvPr id="379" name=""/>
              <p:cNvSpPr/>
              <p:nvPr/>
            </p:nvSpPr>
            <p:spPr>
              <a:xfrm>
                <a:off x="5919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05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000920" y="5040360"/>
            <a:ext cx="1100160" cy="277920"/>
            <a:chOff x="7000920" y="5040360"/>
            <a:chExt cx="1100160" cy="277920"/>
          </a:xfrm>
        </p:grpSpPr>
        <p:grpSp>
          <p:nvGrpSpPr>
            <p:cNvPr id="382" name=""/>
            <p:cNvGrpSpPr/>
            <p:nvPr/>
          </p:nvGrpSpPr>
          <p:grpSpPr>
            <a:xfrm>
              <a:off x="7820280" y="5040360"/>
              <a:ext cx="280800" cy="277920"/>
              <a:chOff x="7820280" y="5040360"/>
              <a:chExt cx="280800" cy="2779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3432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202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543800" y="5040360"/>
              <a:ext cx="280800" cy="277920"/>
              <a:chOff x="7543800" y="5040360"/>
              <a:chExt cx="280800" cy="27792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784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43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77400" y="5040360"/>
              <a:ext cx="280080" cy="277920"/>
              <a:chOff x="7277400" y="5040360"/>
              <a:chExt cx="280080" cy="277920"/>
            </a:xfrm>
          </p:grpSpPr>
          <p:sp>
            <p:nvSpPr>
              <p:cNvPr id="389" name=""/>
              <p:cNvSpPr/>
              <p:nvPr/>
            </p:nvSpPr>
            <p:spPr>
              <a:xfrm>
                <a:off x="72910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74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00920" y="5040360"/>
              <a:ext cx="280800" cy="277920"/>
              <a:chOff x="7000920" y="5040360"/>
              <a:chExt cx="280800" cy="277920"/>
            </a:xfrm>
          </p:grpSpPr>
          <p:sp>
            <p:nvSpPr>
              <p:cNvPr id="392" name=""/>
              <p:cNvSpPr/>
              <p:nvPr/>
            </p:nvSpPr>
            <p:spPr>
              <a:xfrm>
                <a:off x="701496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09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810320" y="5383080"/>
            <a:ext cx="1099080" cy="277920"/>
            <a:chOff x="4810320" y="5383080"/>
            <a:chExt cx="1099080" cy="277920"/>
          </a:xfrm>
        </p:grpSpPr>
        <p:grpSp>
          <p:nvGrpSpPr>
            <p:cNvPr id="395" name=""/>
            <p:cNvGrpSpPr/>
            <p:nvPr/>
          </p:nvGrpSpPr>
          <p:grpSpPr>
            <a:xfrm>
              <a:off x="5629320" y="5383080"/>
              <a:ext cx="280080" cy="277920"/>
              <a:chOff x="5629320" y="5383080"/>
              <a:chExt cx="280080" cy="277920"/>
            </a:xfrm>
          </p:grpSpPr>
          <p:sp>
            <p:nvSpPr>
              <p:cNvPr id="396" name=""/>
              <p:cNvSpPr/>
              <p:nvPr/>
            </p:nvSpPr>
            <p:spPr>
              <a:xfrm>
                <a:off x="5643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29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352840" y="5383080"/>
              <a:ext cx="280080" cy="277920"/>
              <a:chOff x="5352840" y="5383080"/>
              <a:chExt cx="280080" cy="277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36652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5284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086080" y="5383080"/>
              <a:ext cx="280080" cy="277920"/>
              <a:chOff x="5086080" y="5383080"/>
              <a:chExt cx="280080" cy="2779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0012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608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10320" y="5383080"/>
              <a:ext cx="280080" cy="277920"/>
              <a:chOff x="4810320" y="5383080"/>
              <a:chExt cx="280080" cy="27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24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10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4008600" y="4811760"/>
            <a:ext cx="13525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4821120"/>
            <a:ext cx="0" cy="1620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29120" y="4687920"/>
            <a:ext cx="280800" cy="1068120"/>
            <a:chOff x="4029120" y="4687920"/>
            <a:chExt cx="280800" cy="1068120"/>
          </a:xfrm>
        </p:grpSpPr>
        <p:grpSp>
          <p:nvGrpSpPr>
            <p:cNvPr id="410" name=""/>
            <p:cNvGrpSpPr/>
            <p:nvPr/>
          </p:nvGrpSpPr>
          <p:grpSpPr>
            <a:xfrm>
              <a:off x="4029120" y="5478120"/>
              <a:ext cx="280800" cy="277920"/>
              <a:chOff x="4029120" y="5478120"/>
              <a:chExt cx="280800" cy="277920"/>
            </a:xfrm>
          </p:grpSpPr>
          <p:sp>
            <p:nvSpPr>
              <p:cNvPr id="411" name=""/>
              <p:cNvSpPr/>
              <p:nvPr/>
            </p:nvSpPr>
            <p:spPr>
              <a:xfrm>
                <a:off x="404316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2912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29120" y="5221080"/>
              <a:ext cx="280800" cy="277920"/>
              <a:chOff x="4029120" y="5221080"/>
              <a:chExt cx="280800" cy="277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4316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91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029120" y="4954320"/>
              <a:ext cx="280800" cy="277920"/>
              <a:chOff x="4029120" y="4954320"/>
              <a:chExt cx="280800" cy="277920"/>
            </a:xfrm>
          </p:grpSpPr>
          <p:sp>
            <p:nvSpPr>
              <p:cNvPr id="417" name=""/>
              <p:cNvSpPr/>
              <p:nvPr/>
            </p:nvSpPr>
            <p:spPr>
              <a:xfrm>
                <a:off x="404316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2912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029120" y="4687920"/>
              <a:ext cx="280800" cy="277920"/>
              <a:chOff x="4029120" y="4687920"/>
              <a:chExt cx="280800" cy="277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4316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2912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4303800" y="4735440"/>
            <a:ext cx="21430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46880" y="47451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24280" y="4687920"/>
            <a:ext cx="280800" cy="1068120"/>
            <a:chOff x="2924280" y="4687920"/>
            <a:chExt cx="280800" cy="1068120"/>
          </a:xfrm>
        </p:grpSpPr>
        <p:grpSp>
          <p:nvGrpSpPr>
            <p:cNvPr id="425" name=""/>
            <p:cNvGrpSpPr/>
            <p:nvPr/>
          </p:nvGrpSpPr>
          <p:grpSpPr>
            <a:xfrm>
              <a:off x="2924280" y="5478120"/>
              <a:ext cx="280800" cy="277920"/>
              <a:chOff x="2924280" y="5478120"/>
              <a:chExt cx="280800" cy="277920"/>
            </a:xfrm>
          </p:grpSpPr>
          <p:sp>
            <p:nvSpPr>
              <p:cNvPr id="426" name=""/>
              <p:cNvSpPr/>
              <p:nvPr/>
            </p:nvSpPr>
            <p:spPr>
              <a:xfrm>
                <a:off x="293832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428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24280" y="5221080"/>
              <a:ext cx="280800" cy="277920"/>
              <a:chOff x="2924280" y="5221080"/>
              <a:chExt cx="280800" cy="277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93832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428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924280" y="4954320"/>
              <a:ext cx="280800" cy="277920"/>
              <a:chOff x="2924280" y="4954320"/>
              <a:chExt cx="280800" cy="277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93832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428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924280" y="4687920"/>
              <a:ext cx="280800" cy="277920"/>
              <a:chOff x="2924280" y="4687920"/>
              <a:chExt cx="280800" cy="277920"/>
            </a:xfrm>
          </p:grpSpPr>
          <p:sp>
            <p:nvSpPr>
              <p:cNvPr id="435" name=""/>
              <p:cNvSpPr/>
              <p:nvPr/>
            </p:nvSpPr>
            <p:spPr>
              <a:xfrm>
                <a:off x="293832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2428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189240" y="4811760"/>
            <a:ext cx="43624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2360" y="4821120"/>
            <a:ext cx="0" cy="190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905800" y="5383080"/>
            <a:ext cx="1099080" cy="277920"/>
            <a:chOff x="5905800" y="5383080"/>
            <a:chExt cx="1099080" cy="277920"/>
          </a:xfrm>
        </p:grpSpPr>
        <p:grpSp>
          <p:nvGrpSpPr>
            <p:cNvPr id="440" name=""/>
            <p:cNvGrpSpPr/>
            <p:nvPr/>
          </p:nvGrpSpPr>
          <p:grpSpPr>
            <a:xfrm>
              <a:off x="6724800" y="5383080"/>
              <a:ext cx="280080" cy="277920"/>
              <a:chOff x="6724800" y="5383080"/>
              <a:chExt cx="280080" cy="277920"/>
            </a:xfrm>
          </p:grpSpPr>
          <p:sp>
            <p:nvSpPr>
              <p:cNvPr id="441" name=""/>
              <p:cNvSpPr/>
              <p:nvPr/>
            </p:nvSpPr>
            <p:spPr>
              <a:xfrm>
                <a:off x="6738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24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448320" y="5383080"/>
              <a:ext cx="280080" cy="277920"/>
              <a:chOff x="6448320" y="5383080"/>
              <a:chExt cx="280080" cy="277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462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48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181560" y="5383080"/>
              <a:ext cx="280080" cy="277920"/>
              <a:chOff x="6181560" y="5383080"/>
              <a:chExt cx="280080" cy="277920"/>
            </a:xfrm>
          </p:grpSpPr>
          <p:sp>
            <p:nvSpPr>
              <p:cNvPr id="447" name=""/>
              <p:cNvSpPr/>
              <p:nvPr/>
            </p:nvSpPr>
            <p:spPr>
              <a:xfrm>
                <a:off x="619560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8156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905800" y="5383080"/>
              <a:ext cx="280080" cy="277920"/>
              <a:chOff x="5905800" y="5383080"/>
              <a:chExt cx="280080" cy="27792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9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05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486240" y="4687920"/>
            <a:ext cx="280800" cy="1068120"/>
            <a:chOff x="3486240" y="4687920"/>
            <a:chExt cx="280800" cy="1068120"/>
          </a:xfrm>
        </p:grpSpPr>
        <p:grpSp>
          <p:nvGrpSpPr>
            <p:cNvPr id="453" name=""/>
            <p:cNvGrpSpPr/>
            <p:nvPr/>
          </p:nvGrpSpPr>
          <p:grpSpPr>
            <a:xfrm>
              <a:off x="3486240" y="5478120"/>
              <a:ext cx="280800" cy="277920"/>
              <a:chOff x="3486240" y="5478120"/>
              <a:chExt cx="280800" cy="277920"/>
            </a:xfrm>
          </p:grpSpPr>
          <p:sp>
            <p:nvSpPr>
              <p:cNvPr id="454" name=""/>
              <p:cNvSpPr/>
              <p:nvPr/>
            </p:nvSpPr>
            <p:spPr>
              <a:xfrm>
                <a:off x="350028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8624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486240" y="5221080"/>
              <a:ext cx="280800" cy="277920"/>
              <a:chOff x="3486240" y="5221080"/>
              <a:chExt cx="280800" cy="277920"/>
            </a:xfrm>
          </p:grpSpPr>
          <p:sp>
            <p:nvSpPr>
              <p:cNvPr id="457" name=""/>
              <p:cNvSpPr/>
              <p:nvPr/>
            </p:nvSpPr>
            <p:spPr>
              <a:xfrm>
                <a:off x="350028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624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486240" y="4954320"/>
              <a:ext cx="280800" cy="277920"/>
              <a:chOff x="3486240" y="4954320"/>
              <a:chExt cx="280800" cy="277920"/>
            </a:xfrm>
          </p:grpSpPr>
          <p:sp>
            <p:nvSpPr>
              <p:cNvPr id="460" name=""/>
              <p:cNvSpPr/>
              <p:nvPr/>
            </p:nvSpPr>
            <p:spPr>
              <a:xfrm>
                <a:off x="350028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8624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486240" y="4687920"/>
              <a:ext cx="280800" cy="277920"/>
              <a:chOff x="3486240" y="4687920"/>
              <a:chExt cx="280800" cy="277920"/>
            </a:xfrm>
          </p:grpSpPr>
          <p:sp>
            <p:nvSpPr>
              <p:cNvPr id="463" name=""/>
              <p:cNvSpPr/>
              <p:nvPr/>
            </p:nvSpPr>
            <p:spPr>
              <a:xfrm>
                <a:off x="350028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624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3608280" y="5745240"/>
            <a:ext cx="0" cy="17136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98920" y="5916600"/>
            <a:ext cx="1743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42040" y="5678280"/>
            <a:ext cx="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1240" y="5754600"/>
            <a:ext cx="9360" cy="28584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1240" y="6031080"/>
            <a:ext cx="30956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46880" y="5697000"/>
            <a:ext cx="0" cy="333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6592-2396-46EE-9AAC-C923EE20A0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implement a double column transposi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262240" y="3419640"/>
            <a:ext cx="511344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00F5-721E-4163-9D39-4A72A73BA2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0T01:51:27Z</dcterms:modified>
  <cp:revision>69</cp:revision>
  <dc:subject/>
  <dc:title>CAP Cryptographic Analysis Program</dc:title>
</cp:coreProperties>
</file>